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A8B8-DD32-4B02-90F1-D5D22CC7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09FD-6240-4575-809C-6B3C83B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EAA7-0EAF-440B-B3A6-E4C7A2E0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B6A1-E6DA-409A-9D5D-E066B662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C45B-4FCC-4DD8-A8A4-5CE8CF52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879C-B5A2-410E-B86F-9494546E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CC18-2E4C-443A-BF56-2DC51F2F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F427-F790-44CF-97CB-0090CAE1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A3C5-CD00-4764-81A6-76DBE08D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A8AE-3472-41D6-AE87-EA7091EA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8165-2A33-40F6-AD8F-E375338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6EE9-55C3-4799-B9A7-0F59E385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3784-FFD1-4920-AB84-9C3B2391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06B7-E09C-4C3F-AD4C-45EC60D4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30DB-DF96-429E-B5EF-D44DBDA4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84DE-57ED-44AC-A13D-8E9CD1C1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C319-8164-41E9-8E93-5C54D79E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0597-4953-4CE9-AC0C-EBBBFACB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F828-238F-463D-B851-35DED18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4BFB-A212-42F4-A753-2A1743C6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A5A6-669F-4B50-888F-C6F9A052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B891-AFB3-4B7C-9D56-2791CDD3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12999-5934-46D9-8B54-555498E8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763F-3654-44DE-95E2-FFC92397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F46D-4EC2-4901-827A-B41DB18FF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4685-1992-4B50-8CA3-6A102095A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0280" y="16506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attack can match the word with the ciphertext to discover the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8720" y="2367000"/>
            <a:ext cx="1087200" cy="449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1360" y="2690640"/>
            <a:ext cx="4805640" cy="408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08080" y="4033800"/>
            <a:ext cx="1155960" cy="59220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5040" y="2819520"/>
            <a:ext cx="1155600" cy="59184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CD04-A010-4592-BC57-8287DC87FF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5:16Z</dcterms:modified>
  <cp:revision>68</cp:revision>
  <dc:subject/>
  <dc:title>CAP Cryptographic Analysis Program</dc:title>
</cp:coreProperties>
</file>